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953756-673F-4155-B9A3-8EF4B9D82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26A72-D899-4E6A-A425-7B263E3D9A23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C6FF24-A582-43AE-A953-CC54B4B8C15B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30D378-F8B4-4F7F-B0BD-94188FA9A79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94CB88-FAB6-4858-9F96-FC2678AA54B2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BBC972-FEC0-4494-95E7-61F007ED6B5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433AE7-93C1-467B-A790-252BD867D71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E680E7-B4A8-40DA-8448-64B13F8E1D9A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6A5A028-7C0E-459A-978A-5EABBFD651CF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E6639B-D4BC-42CE-88E9-31DB5BA7090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F2D6F5-8EE9-4CF8-AF1B-F5A374C552C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36BF4D-951E-47EB-9FA5-7B68947BC6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9D0A2-75C7-4BB2-BBC0-766FB66B46E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42DC5E-673A-48BC-9308-05BC6005EF0F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8AA4C-0534-4F79-9F84-09349CF919E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251C09-4CD2-4176-B076-F6D1539FDA8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5DDF50-B233-46A2-BD74-BFB161D9532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293D1B-05DD-44DA-8379-FD9C364E594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F623A9-2E5E-4A1C-ABD6-3A892BB33DC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C2A4E-4F9B-4CBB-A544-6420C2E6692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FE637-9626-41D2-A5DE-C078BA6A8B5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3E2CA-BBDD-4890-B836-5664DA7B81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3415BE-A2AC-4913-B28C-1FCE28630E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E3C49-EDAA-4BFA-B3AB-ADC08B0E749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DD31D-97D8-4759-BAC0-DC819C5E27C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A961BA-F066-42AA-9809-A472A6EFCED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FB17EF4-7297-453E-8AA5-51542E73613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6F80F5B-46B9-41C5-8A08-2A7E3FACF2D4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AC40490-6930-4FDD-8E10-82A7E597D0A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9455C5F-EB0A-4A2B-88BB-B841B2740242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64FC31-75A5-4FBE-947C-EB37B6E8FB0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55017B-0389-40D8-B01C-98BAB7C8278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F4E21-0AC1-4BAB-9A2C-CAC726836DE8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022F22-F313-4547-9CDB-1B9EFDC31E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CF3FB-949C-4537-AA4F-5E71A17C9FAE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A86D7A-F2FD-4B5C-AF35-1F45CB03772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A729D09-98E0-4DFB-997F-CC6E7B28EFA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48E69F-5225-4AB2-B04E-E7511840FE9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B5E8275-92BA-4179-A2E5-50798110685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0F948F-7262-4AA7-A354-E550E45D4994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BD0BA1-2A17-4242-A805-AA8F313EDB3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E60440-BB83-4408-920B-A24CA2B8CA7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8ADB02D-904B-4AFC-90BD-DBD21A6D028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21A8E69-A6F3-4A65-A4D4-459245D558F1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ABBDFD-DBDC-437B-9C81-2899AFA9C1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8BA25-FBE4-4994-9D73-90BFDD1DC250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940C6B-88F0-4D77-B9DE-8EEA440EDCAC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21221A9-507C-48A5-A802-71A4DD084F5B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1BFD369-9961-4BC9-A1BE-ACD5CD63DE05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0681EA-1989-45CF-BEEE-8A1D7F1E05B7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963A9-51D1-4E0A-B82B-2811D354B7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76E1A-EFF0-4DB6-AC23-346B7BE3C86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51678-5D12-43CD-9893-2BFCFBA4FE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7AA6D-FB1D-4805-A631-A4B303DB4CD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EE8CF-9B89-438E-983F-71FFED953A6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43745-0913-4E16-8152-7A76E13412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2CC0B-1809-4E81-951E-EC3CC7CB1D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4AB66-5663-4B12-82F0-33681243796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B8DDA4-A38B-464D-ABB8-0B3E6A4993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E46661-4265-4146-880C-BD99DE111B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79F41-82A8-4BCD-8750-2A67BA0F5EA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AEA45-1D74-47ED-B9CF-E8491309ECD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C6C3-0922-4168-BDE1-08AAA1151A7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FDA-4EF6-4607-8276-1A8996D9ECC3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DEA1D-3B3A-4C73-803F-DEF57A1A33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2546-7414-4DAD-90D9-5EEA672E72BA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C95E-7DB7-4EEE-A1A4-7D9EE83563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ACBCA-B974-4F47-9D3B-5CAD2AE8963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37DD-31C8-4AC7-9E6C-F90F66AEE95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4565-E803-4BA4-AD92-EB022D74CCA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FF33-1062-4D57-A458-5EB108B765B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336-A5B0-4617-B36F-B54DFF0252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71A44-F0F1-4F73-8D34-B477695275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1F17-04FF-420E-BC9F-309924DB827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D781-06B4-4223-A2E3-F0B1BF09A15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4E27E3-7A16-4CF8-BCE1-86D8825EDB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A55BF3-9F43-4628-908F-A6B0047C9D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061846-859F-4C0C-9DFE-2C10C09688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BB42-EEE7-43A5-9E78-2BDF163430E0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39DA8-3B2D-444D-BB28-A4F10CFA1F2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A33C5-38AD-4344-8F65-E53BB7B4FBB2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54114-325F-407D-863E-38450FBC2448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C43BC2-C6AA-4A79-86EC-DF6F679E797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A664F-5920-479D-92AF-1B822DAD1ECB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0AD4F0-AA19-47B9-9D82-94F3F0ACB8C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1268BF-0019-42D5-BE0E-598FF2D2065A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B5AA9F-AC52-47FA-B7DB-35C95EE49EEC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C7893E-EB17-4EC0-9FAF-8E3B952F54D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7CC1AB-AE0D-4104-8A2B-D109F59009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07783-EBB3-4919-85BE-974E02CE31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DC036B-BC10-4173-A4BC-89AD93EF4AE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54BDE-2E20-4C91-9D23-220812D11FCA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2D9EFB-5D35-4A3A-94A4-2E1FBD4535E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D8C54B-E267-486E-8221-4B78C3BF87A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7B4A11-3FAB-4E7F-8FC1-476CDFE0A94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DADD0-7189-4AF9-9B0A-57EA17DE339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013EE1-A749-41B1-852D-16F6D64364E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658B64-1B0F-4945-8647-6F7FB1E9C46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18DB0-6C4F-4CDB-A3E5-C65DA2EF2E65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BA26BC-2CBB-4C16-AB6B-AA9E86EEA9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893E-A556-4384-B130-8F59BC3A8D3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956C0E-D514-49DF-9753-286ECD0C554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890CF-5161-440A-AC15-CC2EA896A7B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60909-3410-4FFD-A151-409652E9D77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36FD5-8AC7-48B3-A942-2D74FCB673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43CFA-87DA-4948-93F7-553093B9432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95946-B831-41AD-95BE-28D5914C1D88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93F77-D1DA-43D4-BB1E-0D2EFFD81C6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A7F19-90E9-4CC9-9A3A-3954EEA03AE9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5E11F-24C7-4C50-8BBC-EB25DA1F0B77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F1DF9-0235-4C2B-8B39-6E9C2A9C9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C4F48-7C01-41C3-9655-643C72D1435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6238-1627-4F21-837E-D6FC7D4F5384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03B12-E91A-4B1B-A8D8-5D2EBD3002B6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2C78A-8612-4D3D-9A44-213F2F01A512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DDA5AC-1740-4287-8C4E-BF253FEFA6D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B5D073-904D-4567-8441-81D0F187B073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699DEEE-0995-430B-9F24-AE51DD009B3D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B8EB7D4-CB3D-475A-A899-BEE96232DD59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666CA7F-1E8E-49AC-B896-97754AEB2D9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BB821B-F94C-4627-AB8D-38BC45E6D3E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992109E-075E-4616-9C41-6591DA1188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641B8-1895-49CB-8C3F-237CB5A01DF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DA5B1BB-DDEE-42E1-BFBF-8F3BEDCF126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568900-CF45-4D4E-8550-25A1D451FCBD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C6CE427-182A-4A73-8361-A3B6F70C094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01576A6-B85B-4A78-A34A-F4176360E6F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4F200E-D233-4934-ADD4-D46993BC0AB4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ACFCD-C57A-4D80-9276-8A504771760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F1517E-F1E1-4D2D-8C85-81482A9E7AD5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D3C79-33AA-4CC3-AAF1-739CD1F74E3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1808D0-F2E1-40B8-BF7A-6A472D92E0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2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4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sldNum" idx="1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08BA-FFE4-4518-B8C1-59E26F83B0B5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4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405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sldNum" idx="9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39663-D7E4-431F-9107-0015EDD2C0C6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447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449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2" name="PlaceHolder 1"/>
          <p:cNvSpPr>
            <a:spLocks noGrp="1"/>
          </p:cNvSpPr>
          <p:nvPr>
            <p:ph type="sldNum" idx="10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69C7B-4DA3-418E-8394-DB05D7A98140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491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493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6" name="PlaceHolder 1"/>
          <p:cNvSpPr>
            <a:spLocks noGrp="1"/>
          </p:cNvSpPr>
          <p:nvPr>
            <p:ph type="sldNum" idx="11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462F-F25E-4F73-8AD7-C5741C408EAA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48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sldNum" idx="2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F8B4-11F4-468D-94B2-8838D64AECA2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92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Rechteck 6"/>
          <p:cNvSpPr/>
          <p:nvPr/>
        </p:nvSpPr>
        <p:spPr>
          <a:xfrm>
            <a:off x="8352000" y="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8f6d5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e8f6d5"/>
                </a:solidFill>
                <a:latin typeface="Wingdings"/>
                <a:ea typeface="Wingdings"/>
              </a:rPr>
              <a:t>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1455840" y="6308640"/>
            <a:ext cx="630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d8e1c"/>
                </a:solidFill>
                <a:latin typeface="Arial"/>
              </a:rPr>
              <a:t>Mit Kunden der Verkehrsunternehmen umg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Num" idx="3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01C0-EC35-4CB9-A6E7-17C01B5BD34E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140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PlaceHolder 1"/>
          <p:cNvSpPr>
            <a:spLocks noGrp="1"/>
          </p:cNvSpPr>
          <p:nvPr>
            <p:ph type="sldNum" idx="4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7EBF-7085-422F-A902-41B06E0A3414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184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sldNum" idx="5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221EA-3911-4641-95D5-DA59D3A06968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228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PlaceHolder 1"/>
          <p:cNvSpPr>
            <a:spLocks noGrp="1"/>
          </p:cNvSpPr>
          <p:nvPr>
            <p:ph type="sldNum" idx="6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2C1E-E2E7-458B-802F-C223558BE4C3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272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PlaceHolder 1"/>
          <p:cNvSpPr>
            <a:spLocks noGrp="1"/>
          </p:cNvSpPr>
          <p:nvPr>
            <p:ph type="sldNum" idx="7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1DB2-CC04-4EFD-ADBF-DE22E364FE5B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9"/>
          <p:cNvSpPr/>
          <p:nvPr/>
        </p:nvSpPr>
        <p:spPr>
          <a:xfrm>
            <a:off x="0" y="630396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314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316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Rectangle 16"/>
          <p:cNvSpPr/>
          <p:nvPr/>
        </p:nvSpPr>
        <p:spPr>
          <a:xfrm>
            <a:off x="431640" y="6148440"/>
            <a:ext cx="82663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5d8e1c"/>
                </a:solidFill>
                <a:latin typeface="Arial"/>
              </a:rPr>
              <a:t>Mit Kunden der Verkehrsunternehmen umgeh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hteck 6"/>
          <p:cNvSpPr/>
          <p:nvPr/>
        </p:nvSpPr>
        <p:spPr>
          <a:xfrm>
            <a:off x="8352000" y="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e8f6d5"/>
                </a:solidFill>
                <a:latin typeface="Arial"/>
              </a:rPr>
              <a:t>  </a:t>
            </a:r>
            <a:r>
              <a:rPr b="1" lang="de-DE" sz="2000" spc="-1" strike="noStrike">
                <a:solidFill>
                  <a:srgbClr val="e8f6d5"/>
                </a:solidFill>
                <a:latin typeface="Wingdings"/>
                <a:ea typeface="Wingdings"/>
              </a:rPr>
              <a:t>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9"/>
          <p:cNvSpPr/>
          <p:nvPr/>
        </p:nvSpPr>
        <p:spPr>
          <a:xfrm>
            <a:off x="0" y="6311880"/>
            <a:ext cx="9144000" cy="546120"/>
          </a:xfrm>
          <a:prstGeom prst="rect">
            <a:avLst/>
          </a:prstGeom>
          <a:solidFill>
            <a:srgbClr val="d1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1" descr="VOGEL logo3C"/>
          <p:cNvPicPr/>
          <p:nvPr/>
        </p:nvPicPr>
        <p:blipFill>
          <a:blip r:embed="rId2"/>
          <a:stretch/>
        </p:blipFill>
        <p:spPr>
          <a:xfrm>
            <a:off x="250920" y="6327720"/>
            <a:ext cx="1027080" cy="341280"/>
          </a:xfrm>
          <a:prstGeom prst="rect">
            <a:avLst/>
          </a:prstGeom>
          <a:ln w="0">
            <a:noFill/>
          </a:ln>
        </p:spPr>
      </p:pic>
      <p:sp>
        <p:nvSpPr>
          <p:cNvPr id="359" name="Rectangle 14"/>
          <p:cNvSpPr/>
          <p:nvPr/>
        </p:nvSpPr>
        <p:spPr>
          <a:xfrm>
            <a:off x="7993080" y="6316560"/>
            <a:ext cx="731880" cy="276480"/>
          </a:xfrm>
          <a:prstGeom prst="rect">
            <a:avLst/>
          </a:prstGeom>
          <a:solidFill>
            <a:srgbClr val="66b8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21"/>
          <p:cNvGrpSpPr/>
          <p:nvPr/>
        </p:nvGrpSpPr>
        <p:grpSpPr>
          <a:xfrm>
            <a:off x="0" y="0"/>
            <a:ext cx="9144000" cy="719280"/>
            <a:chOff x="0" y="0"/>
            <a:chExt cx="9144000" cy="719280"/>
          </a:xfrm>
        </p:grpSpPr>
        <p:sp>
          <p:nvSpPr>
            <p:cNvPr id="361" name="Rectangle 8"/>
            <p:cNvSpPr/>
            <p:nvPr/>
          </p:nvSpPr>
          <p:spPr>
            <a:xfrm>
              <a:off x="0" y="0"/>
              <a:ext cx="9144000" cy="719280"/>
            </a:xfrm>
            <a:prstGeom prst="rect">
              <a:avLst/>
            </a:prstGeom>
            <a:solidFill>
              <a:srgbClr val="d1ed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0"/>
            <p:cNvSpPr/>
            <p:nvPr/>
          </p:nvSpPr>
          <p:spPr>
            <a:xfrm>
              <a:off x="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870120"/>
                  <a:tab algn="l" pos="1739880"/>
                  <a:tab algn="l" pos="2610000"/>
                  <a:tab algn="l" pos="3479760"/>
                  <a:tab algn="l" pos="4349880"/>
                  <a:tab algn="l" pos="5219640"/>
                  <a:tab algn="l" pos="6089760"/>
                  <a:tab algn="l" pos="6959520"/>
                  <a:tab algn="l" pos="7829640"/>
                  <a:tab algn="l" pos="8699400"/>
                  <a:tab algn="l" pos="9569520"/>
                  <a:tab algn="l" pos="1043928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2"/>
            <p:cNvSpPr/>
            <p:nvPr/>
          </p:nvSpPr>
          <p:spPr>
            <a:xfrm>
              <a:off x="8424720" y="0"/>
              <a:ext cx="719280" cy="719280"/>
            </a:xfrm>
            <a:prstGeom prst="rect">
              <a:avLst/>
            </a:prstGeom>
            <a:solidFill>
              <a:srgbClr val="66b8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sldNum" idx="8"/>
          </p:nvPr>
        </p:nvSpPr>
        <p:spPr>
          <a:xfrm>
            <a:off x="655128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e8f6d5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BAC7-F59F-4379-BDE0-2AAF18A00E46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r>
              <a:rPr b="0" lang="de-DE" sz="1200" spc="-1" strike="noStrike">
                <a:solidFill>
                  <a:srgbClr val="e8f6d5"/>
                </a:solidFill>
                <a:latin typeface="Calibri"/>
              </a:rPr>
              <a:t>/8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Foliennummernplatzhalter 5"/>
          <p:cNvSpPr/>
          <p:nvPr/>
        </p:nvSpPr>
        <p:spPr>
          <a:xfrm>
            <a:off x="6551640" y="6303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2C56D-AE96-4BE7-81D7-7C64DAAAFFDF}" type="slidenum">
              <a:rPr b="0" lang="de-DE" sz="1200" spc="-1" strike="noStrike">
                <a:solidFill>
                  <a:srgbClr val="e8f6d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2"/>
          <p:cNvSpPr/>
          <p:nvPr/>
        </p:nvSpPr>
        <p:spPr>
          <a:xfrm>
            <a:off x="755640" y="166680"/>
            <a:ext cx="7561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Die vier Seiten einer Nachric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71280" y="152280"/>
            <a:ext cx="61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Arial"/>
              </a:rPr>
              <a:t>4.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8496360" y="368280"/>
            <a:ext cx="53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1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Oval 17"/>
          <p:cNvSpPr/>
          <p:nvPr/>
        </p:nvSpPr>
        <p:spPr>
          <a:xfrm>
            <a:off x="250920" y="814320"/>
            <a:ext cx="2341440" cy="90036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Sen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Oval 18"/>
          <p:cNvSpPr/>
          <p:nvPr/>
        </p:nvSpPr>
        <p:spPr>
          <a:xfrm>
            <a:off x="6192720" y="814320"/>
            <a:ext cx="2341800" cy="90036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Empfän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19"/>
          <p:cNvSpPr/>
          <p:nvPr/>
        </p:nvSpPr>
        <p:spPr>
          <a:xfrm>
            <a:off x="71280" y="1808280"/>
            <a:ext cx="3060720" cy="90000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ch informiere meinen Ge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prächspart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0"/>
          <p:cNvSpPr/>
          <p:nvPr/>
        </p:nvSpPr>
        <p:spPr>
          <a:xfrm>
            <a:off x="6012000" y="1808280"/>
            <a:ext cx="3060720" cy="90000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ist das, was der Andere m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sagt, zu verstehe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Oval 22"/>
          <p:cNvSpPr/>
          <p:nvPr/>
        </p:nvSpPr>
        <p:spPr>
          <a:xfrm>
            <a:off x="3424320" y="1808280"/>
            <a:ext cx="2341440" cy="90000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Sachasp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3"/>
          <p:cNvSpPr/>
          <p:nvPr/>
        </p:nvSpPr>
        <p:spPr>
          <a:xfrm>
            <a:off x="71280" y="2889360"/>
            <a:ext cx="3060720" cy="90000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ch sage was ich von mein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Gegenüber halte und wie ich z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hm/ihr ste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24"/>
          <p:cNvSpPr/>
          <p:nvPr/>
        </p:nvSpPr>
        <p:spPr>
          <a:xfrm>
            <a:off x="6012000" y="2889360"/>
            <a:ext cx="3060720" cy="90000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hält der Andere von mi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ist die Beziehung zu mi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ie redet er heute mit mi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5"/>
          <p:cNvSpPr/>
          <p:nvPr/>
        </p:nvSpPr>
        <p:spPr>
          <a:xfrm>
            <a:off x="3424320" y="2889360"/>
            <a:ext cx="2341440" cy="90000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Beziehungsasp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ectangle 26"/>
          <p:cNvSpPr/>
          <p:nvPr/>
        </p:nvSpPr>
        <p:spPr>
          <a:xfrm>
            <a:off x="71280" y="3968640"/>
            <a:ext cx="3060720" cy="90036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ch stelle mich selbst d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7"/>
          <p:cNvSpPr/>
          <p:nvPr/>
        </p:nvSpPr>
        <p:spPr>
          <a:xfrm>
            <a:off x="6012000" y="3968640"/>
            <a:ext cx="3060720" cy="90036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ist der Andere für ei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Mensc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eshalb verhält er sich s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Oval 28"/>
          <p:cNvSpPr/>
          <p:nvPr/>
        </p:nvSpPr>
        <p:spPr>
          <a:xfrm>
            <a:off x="3424320" y="3968640"/>
            <a:ext cx="2341440" cy="90036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Selbstoffenba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rungsasp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9"/>
          <p:cNvSpPr/>
          <p:nvPr/>
        </p:nvSpPr>
        <p:spPr>
          <a:xfrm>
            <a:off x="71280" y="5049720"/>
            <a:ext cx="3060720" cy="90036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ch beeinflusse mein Gegenü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zum Handel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30"/>
          <p:cNvSpPr/>
          <p:nvPr/>
        </p:nvSpPr>
        <p:spPr>
          <a:xfrm>
            <a:off x="6012000" y="5049720"/>
            <a:ext cx="3060720" cy="900360"/>
          </a:xfrm>
          <a:prstGeom prst="rect">
            <a:avLst/>
          </a:prstGeom>
          <a:solidFill>
            <a:srgbClr val="e8f6d5"/>
          </a:solidFill>
          <a:ln w="1260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erwartet er von mir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Was soll ich tun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Oval 31"/>
          <p:cNvSpPr/>
          <p:nvPr/>
        </p:nvSpPr>
        <p:spPr>
          <a:xfrm>
            <a:off x="3424320" y="5049720"/>
            <a:ext cx="2341440" cy="900360"/>
          </a:xfrm>
          <a:prstGeom prst="ellipse">
            <a:avLst/>
          </a:prstGeom>
          <a:solidFill>
            <a:srgbClr val="d1edae"/>
          </a:solidFill>
          <a:ln w="38160">
            <a:solidFill>
              <a:srgbClr val="5d8e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5d8e1c"/>
                </a:solidFill>
                <a:latin typeface="Arial"/>
              </a:rPr>
              <a:t>Appellaspek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2T11:10:21Z</dcterms:created>
  <dc:creator>Frank Lenz</dc:creator>
  <dc:description/>
  <dc:language>en-US</dc:language>
  <cp:lastModifiedBy>Hurst, Ulrike, Springer Fachmedien Muenchen</cp:lastModifiedBy>
  <cp:lastPrinted>2001-11-27T12:10:22Z</cp:lastPrinted>
  <dcterms:modified xsi:type="dcterms:W3CDTF">2018-02-20T10:01:33Z</dcterms:modified>
  <cp:revision>718</cp:revision>
  <dc:subject/>
  <dc:title>BKF</dc:title>
</cp:coreProperties>
</file>